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782-CEE6-4F26-9F8D-B1AF413D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CFC-D70E-4F1A-BBBB-91AEF417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996-1182-4C88-B2A6-EB9B791B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BC0-05B1-4845-9B82-E29EB97A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EB8-3467-4F44-B4FD-A38B39B6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360-0341-43FA-95C0-23401DE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E35-CC4F-473F-B7D6-A4AEE3E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6A9-993B-4612-81B2-539477E2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62F-D4A5-4344-9E69-91E0B7AF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C02-3AA0-4E58-95FD-823E590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A7F-ED60-4D75-88AC-BB18404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384-CAFC-41BA-AFCE-FB18975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823-A65B-476C-A734-E09A7638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lobalsecurity.org/jhtml/jframe.html#http://www.globalsecurity.org/military/world/war/images/map-1878-treaty-of-berlin-2.jpg|||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668348"/>
          <p:cNvPicPr/>
          <p:nvPr/>
        </p:nvPicPr>
        <p:blipFill>
          <a:blip r:embed="rId1"/>
          <a:stretch/>
        </p:blipFill>
        <p:spPr>
          <a:xfrm>
            <a:off x="1066680" y="1347840"/>
            <a:ext cx="70106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politik-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mperialism v. 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tak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E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volvement w/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Gov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over/Protect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ISH_25_578"/>
          <p:cNvPicPr/>
          <p:nvPr/>
        </p:nvPicPr>
        <p:blipFill>
          <a:blip r:embed="rId1"/>
          <a:stretch/>
        </p:blipFill>
        <p:spPr>
          <a:xfrm>
            <a:off x="0" y="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e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Routes-&gt;New Imp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E.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z Canal-&gt;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N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w/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KISH_25_575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s strategy to balance Power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ation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ugal, Belgium, Spain, Italy (US To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, Spain, long standing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, Gain Political 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shpoints Late 19C early 20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Growing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um War-&gt;Keep Trade 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oor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r’s Rebe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r War (accelerates-&gt;British German Tension – willy you jerk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Mediterran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dan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o-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4 War, won by Japan –Willy? No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abilizes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ish Americ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dominant force in Pacific– Japan on the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black_sea_crimean_war"/>
          <p:cNvPicPr/>
          <p:nvPr/>
        </p:nvPicPr>
        <p:blipFill>
          <a:blip r:embed="rId1"/>
          <a:stretch/>
        </p:blipFill>
        <p:spPr>
          <a:xfrm>
            <a:off x="0" y="2063880"/>
            <a:ext cx="7848720" cy="4794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51JX2RCJJ5L"/>
          <p:cNvPicPr/>
          <p:nvPr/>
        </p:nvPicPr>
        <p:blipFill>
          <a:blip r:embed="rId2"/>
          <a:stretch/>
        </p:blipFill>
        <p:spPr>
          <a:xfrm>
            <a:off x="0" y="0"/>
            <a:ext cx="182556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KISH482"/>
          <p:cNvPicPr/>
          <p:nvPr/>
        </p:nvPicPr>
        <p:blipFill>
          <a:blip r:embed="rId3"/>
          <a:stretch/>
        </p:blipFill>
        <p:spPr>
          <a:xfrm>
            <a:off x="5848200" y="0"/>
            <a:ext cx="311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981080"/>
          <a:ext cx="822960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tom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dmont*/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28" descr="Crimean%20War"/>
          <p:cNvPicPr/>
          <p:nvPr/>
        </p:nvPicPr>
        <p:blipFill>
          <a:blip r:embed="rId1"/>
          <a:stretch/>
        </p:blipFill>
        <p:spPr>
          <a:xfrm>
            <a:off x="0" y="0"/>
            <a:ext cx="2443320" cy="2022480"/>
          </a:xfrm>
          <a:prstGeom prst="rect">
            <a:avLst/>
          </a:prstGeom>
          <a:ln w="0">
            <a:noFill/>
          </a:ln>
        </p:spPr>
      </p:pic>
      <p:sp>
        <p:nvSpPr>
          <p:cNvPr id="52" name="Line 29"/>
          <p:cNvSpPr/>
          <p:nvPr/>
        </p:nvSpPr>
        <p:spPr>
          <a:xfrm flipV="1">
            <a:off x="2362320" y="30456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434340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 probably closer to 45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ea (Russian Inter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-Man” of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Lands- France v. Russia (E. Orthod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Trade Routes- E. Mediterranean (Dardanel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- Gain allies for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of the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t of Europe – Shat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60 years- Shifting alliances-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-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imidated others after Napoleon’s def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tomans- Weak and getting w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60 years- Russian/Habsburg expansion into Ottoman Territory- Balkan Powder K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War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ch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s of Industrial War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zation of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 memorials- include the names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 Nighteng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of the Light Brig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y of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utonomy Balkan regions- including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20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g w/German and Italian Nation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balan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3—Bismarck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Emperors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, Austro-Hungary,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s- resolving problems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lobalsecurity.org/jhtml/jframe.html#http://www.globalsecurity.org/military/world/war/images/map-1878-treaty-of-berlin-2.jpg|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San Stefano-&gt;Congress of Berlin 18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o-British-Austrian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NIA-HERZEGOVENIA- UNDER HABSBURG CONTRO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OF 3 EMPERORS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ZED RUSSIA AND OTHER BALKA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is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9 Anschluss???- German/Austria- initially secret tre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annexation of Bos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fensive for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2 Triple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y Joins- Fend of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7 Reinsurance Treaty—qu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- Neutrality- Don’t GET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8- Kaiser Wilhelm I Dies-&gt;Wilhelm II-&gt;Fires Bis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ad to war? other Tre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 Franco-Russian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4 Britain-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7 Britain-Rus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 Two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Entente v. Triple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 Morocco, Libya, Ba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4-1905 Russo Japanese Wa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Emas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 and Pea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Austria Annexes Bosnia/Herzeg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ser Wilhelm II demands Russian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red and egg faced—quiet deal does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2 Balkan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, Bulgaria, Montenegro, Bulgaria, Greece v. Ottomans-&gt;Macedonia and Albania Captur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lkan War (1913) Ottomans, Greece, Serbia, Romania defeat Ottomans-&gt;Serbia unassua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19:53Z</dcterms:created>
  <dc:creator>Darien Public Schools</dc:creator>
  <dc:description/>
  <dc:language>en-US</dc:language>
  <cp:lastModifiedBy>Local User</cp:lastModifiedBy>
  <dcterms:modified xsi:type="dcterms:W3CDTF">2012-03-05T14:47:54Z</dcterms:modified>
  <cp:revision>21</cp:revision>
  <dc:subject/>
  <dc:title>Crimean War</dc:title>
</cp:coreProperties>
</file>